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zapbig0g.wav" ContentType="audio/x-wav"/>
  <Override PartName="/ppt/media/highchime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00E-B427-4056-BCDA-6131AF2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37A-526B-4E86-9308-C974A445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961-E985-4F21-9F36-B82C8FEC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0AA-7143-4D91-9870-0464FFEE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D45-7368-4051-B5AD-684BC25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E8D-ABE0-4E34-B47F-56EE007C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BE4-E17B-41AE-AF1B-C5FF151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ADB-77B0-4434-8F35-A0D7741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916-26B0-48E3-9A57-8D238B25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F66-5465-49A1-A480-449C025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592-8D4B-407F-82AE-A56D330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392-FD32-4E77-A5B0-DB9306AF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0F8-8F1F-40AF-8896-D48C65CC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a score of 8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54640" y="5997600"/>
            <a:ext cx="36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4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hat score was received by the most stud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42120" y="6012000"/>
            <a:ext cx="1085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100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that sc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42120" y="6012000"/>
            <a:ext cx="361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5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hat score was received by the fewest stud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42120" y="6012000"/>
            <a:ext cx="723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90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7440" y="568944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students received that sco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2120" y="6012000"/>
            <a:ext cx="361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3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99"/>
                </a:solidFill>
                <a:latin typeface="Times New Roman"/>
              </a:rPr>
              <a:t>Use the bar graphs on test scores to answer the question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23840" y="923760"/>
          <a:ext cx="7096320" cy="50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3840" y="923760"/>
                    <a:ext cx="7096320" cy="50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17440" y="568944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w many more students received 100 than 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630760" y="5981760"/>
            <a:ext cx="362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urier New"/>
              </a:rPr>
              <a:t>2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61, 6 – 8 #1 – 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eather Way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23T19:26:54Z</dcterms:modified>
  <cp:revision>82</cp:revision>
  <dc:subject/>
  <dc:title>Slide 1</dc:title>
</cp:coreProperties>
</file>